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D4C-8A00-4222-BA6C-794A8DE8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972-955E-42F0-B801-2DEF8E26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66F29-3E5A-4A54-890F-8FB698F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D66C3-8C10-44BE-A61C-F05D1B8D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5D85D-7B4D-4E9C-A99A-5E959BB0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3349F-183D-424D-8942-BF54047B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1FEAB-A568-4DA3-BEDB-19B52D6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E51BE-2A56-48CF-B984-9D0FBF4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13E92-AA90-4F5F-BA8B-2EF6945D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A923B-44E9-44E5-BCB1-92FA317C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AEFAF-2B48-45D1-A6E4-764096F9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94515-3352-45EA-9C80-00F2A54C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72E-B1E6-4D65-BAED-82ED37BA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D335F-B9FB-4C80-B1A9-A7DB0040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AC6D0-0B05-428C-9D7D-48CD45D5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5A400-C9F0-4378-878D-4AD0CA1F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EAC20-21E7-4F81-9CB4-DE64CF6E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B145A-7D0C-4D35-B181-7CE57E00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2813-BE89-453A-8E16-1E31BE04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5AE07-2112-442A-A993-1C0270AE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F7AB2-C792-48F0-BC5B-CAFE868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7E949-3666-45DA-B9BF-9FB7E21E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0058E-4E4C-4571-92A9-1CB9FCDF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1E2-6BF1-4CCE-9381-4FB8A228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2E9BC-10F4-4844-A076-EFCCEBD3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D5369-FB7E-4D77-9288-8390C254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7D27C-44EC-4A8C-BF73-49958D5F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D3C46-53E8-4EAD-8A81-4126E28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3B6E0-3319-48F6-802F-9EFA4505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71658-5382-45EC-A7CD-618BC48B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6B445-C590-4F08-AF09-9068DA5C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4C92E-4FF5-4B16-9CB9-EE57E3AA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481FF-21CC-4CBD-B8FF-34AE0D0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678B1-2093-4523-8C37-D901F37C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A02B-0B25-43A4-B04C-7F076C31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A8409-BA2A-4713-985C-C5407100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749A6-2D08-44CF-BAE8-52698DF8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FD28A-1413-4849-9981-28B108C0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95A09-4F74-43BA-BF9B-445350F4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03C9F-5D9A-4AA9-98E9-1B13659D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727F9-D385-43E8-8C74-0632EF83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33ABD-2B47-4C39-B325-DBC37821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7D03D-74A5-4462-BA75-C2CE8B2C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E9968-D4AA-48F8-9BF2-FBDED7D4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E9928-E163-4CD5-A730-8A85E384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BAE-41C9-499A-997A-755E296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F80FC-FA00-47DB-9198-4A85F01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E307F-0B18-4C54-8F32-C556975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E57CF-9F69-4536-9365-87D85C9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590CB-6CF4-4444-BBDB-EE0B44EA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F1ABF-0DB6-4000-B659-BB4B18E5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B512C-DD5C-4DD2-99AD-FC05DAEC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F709F-4189-4DAC-9ECE-32F5B560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28127-B23F-4F27-B413-D28EF1D2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13C65-C886-4F23-8B32-51755CA1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1561F-6E9C-42BA-B1C1-1D6447E8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3124-6765-4B3F-818F-77FACE3C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CB01C-B272-472B-944D-9CE22A0D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F268B-9D18-4A2C-9C23-8CDBE763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A3F57-D17D-4A7F-AE75-DFBD1380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CD0A1-8DBB-411F-82D7-CBED7BB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E227E-9435-419D-BA58-FE020143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B326B-8DF1-4176-80CB-45005ABC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6BD3F-88C6-47B8-BF49-E93BEEC4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AEA80-1080-41F7-8DFF-F20B6846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9B1EF-03DF-4406-8421-008C1022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47D3B-533A-4701-BD1E-B7A96D73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F092-60DF-4E95-864D-738AF2F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4046F-ADFE-45F1-A1D6-0F37DAD0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61CD7-063E-4DB9-A5E6-850A6128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30771-6973-4A12-8DE9-7510A0D7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08237-CFC3-47E5-9F28-D3D668D8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35B0E-19A9-4024-AC21-BD578480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7ACFD-6335-42FE-87ED-C573D56F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BBEFE-0EDD-4DCC-9F48-98B9C2DB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156FC-B331-4749-9C19-FCCA5805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75B94-C5EB-4DD1-AC42-9C64388A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4B8B9-567E-440C-A277-451A6D7D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4FEF-29D1-4474-B5E7-EABCBD00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A7000-C2ED-4B6B-A7AA-CD7DF6CA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76A2B-E434-466A-959E-6C9AD3C6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4A3F4-8F24-4384-A45F-281D7A11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20CCC-A6DE-4217-8144-2E07372B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CEF53-CFB3-46A4-8F68-2DCE3C99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A6943-3114-45BF-BC29-2011417A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77846-D35B-4430-92AF-7A64CB6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E9B24-CD87-4B08-BD97-8DD558B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227DD-CBB5-4E3E-A4BE-24CEA2DC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A34DA-A8D9-4090-9E0B-30E92076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4A14-CDDF-45E8-99EA-55951265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CDC54-4031-4857-8B9E-94F943FD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3E4CA-7C78-4C8F-99E8-A059C123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34F31-F4A1-4145-B504-2201108E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09F0C-B4B2-4A5D-AC25-8CCAD54E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21C58-56AF-42DE-AFF2-411B142E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96AAB-ECF5-4D9D-84DD-5C685D1F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F9624-51EC-4F33-94F8-5C10F1BA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30A19-F15A-4779-BD70-AC46D5EF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2DEF3-267E-4B74-8FD2-DCC444A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71308-A18C-4D70-BAA0-936851E5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5EAD-7A1B-4689-B7D8-D1A03CF1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F2393-1915-4AC0-A6E9-F997A288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2C7C5-74B4-4D09-9ACC-21D6F32F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9791D-CE7E-4682-9145-11ADCF9F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F7246-1D21-4306-BF88-41A7148A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82848-8D26-47AD-A4BD-930BF8D9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023A0-AC5B-48C4-8CB1-2D12BBA4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CE63F-4B0C-4B4E-8E73-A4CE2A4A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8E0BD-90FC-4FCA-8C90-C3378C33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FBCF9-FBEF-4031-9000-DF21F6D9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648B3-2A1E-4C87-B7B6-F8007484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1D8-6281-4E26-A42D-9D8B4FAD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BFA7-947C-43C4-A56B-0314FC9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1AF65-6E02-4B00-9C53-8BF7880C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2F448-1BC5-4E54-9EDA-C2594DB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DFEFD-CAF5-4151-8C6C-35C7765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8D32D-1EB8-4BF9-9E15-2FB3592A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AC6C4-0EFB-4C48-AA1D-36980B40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51CC1-FBC7-480A-8007-09B7754D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1DE05-A8A6-4737-B423-29D210C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F1FA2-6D37-4A59-94FB-8CB7A624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F37F8-45A2-4154-935A-6FAEDFA7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4CF4F-1475-4D4E-8159-B7460033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A80F-AD06-4CDD-A56D-29728EC0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38F96-5D2C-49F1-88A6-50E3C9E4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5F658-5F51-4FD2-94B0-11175CED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A27E8-1881-49E0-A0B3-01801DF9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18EEC3-D04C-4519-9089-7D1A08E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65A7E-6963-41A4-B66B-B6BF90CE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7F0875-5807-40F4-8777-1A03367C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E3197-9566-4E37-BBB8-07ACBE6C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DE4CD-950A-4F6F-BE7D-3BE710CE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B770E-C06F-4A9B-8412-B3D173B7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B6AA8-821B-4B5D-A227-8D3ADF96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78F-8992-4321-9B92-986DED3A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91532-3A94-44B3-81BE-6B430F09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98BF7-4193-44E8-89E1-A6B3B428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14DDD9-5753-48E5-B420-4E2BDB8A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5CE5F-6E8C-46DC-ACF4-C40837EC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2026D-3B6E-49BF-9156-4B604DCC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18D06-CF74-4D94-9615-0C757C1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ED927-3BAB-45BE-8355-0F9C8AB3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4DE1C5-C393-4207-8EDE-0CDD8226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D4FA6B-00F6-4AD8-9E9E-826CA413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67371-F73A-49F8-8FF3-667D07E6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CBC6-E080-45BC-B2AF-87F142E6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DF983-3B6A-4B59-A402-5C3719C0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95465-EE03-47A1-A10F-088ADB22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04FDF-36CE-430C-BB57-9340F147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271D3D-A55F-4C80-ABA6-91345576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21D7D-2151-4038-A546-C1644075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AFE1D-7C01-42E4-B8F8-652DEC93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AF693-E93F-496D-8CBE-B7BD5703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1C98E4-0D94-499D-B9A2-9040942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F999B-3647-40E5-9BE5-859E4284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9C1362-6093-4B48-986A-FEEDF949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F0C7-CC41-419F-9DFC-2338E8EC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490BF4-65CB-40FA-8465-C7BDF859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A0BD42-861B-474B-92BF-4A390341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283EA-EC89-43BD-840A-92758132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09640F-151A-4043-923D-9E994702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346386-107C-4E9A-8807-77A0E8F4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85E47A-01AE-43D3-987E-26C36130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78E673-B162-43C7-B8C3-E06FBDE9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21E20-F887-4C85-B58A-0E049D0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2FA35-5548-4447-8A45-B7320A82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1454E0-DBFA-418C-AAA4-95AF2E3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AAFF-5E79-45E5-8B80-9B8D4CD7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9A4FB-7888-4E81-8195-78750B58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BDF32-390C-42DA-9709-2BC72070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D19323-A48C-43DB-907A-13F31347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24F5-E513-4580-9E3B-DEF71A5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0FAF-FA4E-4D09-BB10-0616DEA3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0511-F871-4987-A853-C1CDFB7E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8C700-0A78-4596-8375-34E493A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520-EEDF-47E4-8562-EE404427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68C7-1840-4364-9013-AF5C257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1D24-99D5-4D2F-AC0F-B5FD237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8BDD-3CA8-423E-A9C3-D56BAC0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96FE-0816-4D43-9BB7-247665F9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81BA-210C-41D5-8B15-ADFB999E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C37C-205A-4F74-80C4-FA7B901C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0B14-BA91-44C1-9EE6-D7687948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1118-16CF-423F-8B6F-DF42297C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C412-6788-4819-BFFF-61F3C07D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B8E8C-DA9C-4198-BE99-4D812F9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8BD-C300-4653-ACF1-848FE650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0B337-3CD4-4B4D-9EC6-9D63432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F14D-E113-48DE-BC6B-D308B8E0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47A70-C560-467D-9424-2BBA36C5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5AAA-A00D-42D0-B47A-6294837D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E56B1-3B6A-4DB4-B49F-B14BDC0E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AF41A-6E2F-43BE-8AE6-C2CB8FE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A0E0-8DC5-4D1A-89C3-3C2D8E7F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17D1A-87B4-44BA-BEEA-E1F42658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8DA2-050C-4316-AA92-3C87AB31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58324-25BC-497C-89B9-2D00BAE3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91F-69D5-43A9-B393-1D7EF043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4B88D-E73C-44F4-BFA6-DA9E447B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D3450-9E41-4B2C-9BFB-E21819CE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DE79-B77C-494F-9BC2-EF415F5F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05F88-5352-4B14-AA1E-D95A4B54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D8DCC-6FB4-4F91-B28D-4CA56A9F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41288-9143-46A5-BBE5-87388841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5D428-AC68-4EFD-B933-2D67C2D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0C72-C683-48C4-9961-31A49E76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8AF15-690D-41C9-B8E1-E5676D2F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A5590-815B-45DB-8EFD-8F288F27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7C6-F2C0-48E7-B867-824BB6F0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55D1F-323A-40F0-B908-7E188F47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FAF9D-AEAB-4CB4-B2B1-BD036149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1F0D-7780-4CB0-8670-DF7FAC85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4D367-7375-4028-9D52-2A859C42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B379-455F-4B47-8FFA-60CE3763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941C7-3FCE-4A06-8553-91A07541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DD38-9FFE-4796-8956-93DD84AF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AD38-C370-49B7-BFEA-046D2BD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18E3-DADD-41D5-91B6-2597C5DF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AA902-E46F-45B3-AAA5-B0DCEBB9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CFF-84FE-47F5-8DF1-57F8F88F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AF70D-DE09-46DC-B201-D04DCE2F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5ED4-E98B-4330-B7A0-8A3B5411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451D5-E12E-48CC-92F8-EBA1EE09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3314-33E2-46E4-B398-1B4B04AE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BEC60-51C9-46EA-9B6B-B79AAC96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D233A-0304-4996-8030-FC50C3A9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B7168-2AF1-4B14-ACE5-DBA4F011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2B043-1C65-4522-90AA-8B307FE3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BAD31-6FE8-4E73-8B5E-CD9AA23F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96A23-B7C2-4103-8546-12E6F865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77C-4D9F-40B8-BEB1-A2AE6658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E1E12-B86E-4032-9E20-8B82137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699FC-CB8C-419E-B46B-88DDEC21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20388-914F-46FF-8A48-7DBD6796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75E7C-6E67-4B89-A339-7BA42C68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7A879-DDFC-4E79-97C9-F762CDE3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1375-F672-4BA1-9647-5F4D2F7C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EE69B-01BC-4BF6-ACFD-973E7504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53218-F636-4F3B-A794-9FB630D8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9FE72-A093-4C8B-9469-67FC313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60A83-41AF-4706-A1DC-36E696E5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D3D-3AB2-431B-8149-1DBD5727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06262-ACDB-4A69-B975-4C04784C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1DEA4-C774-483D-BF3B-F3E9CBB9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EB0B6-1086-4F2F-96C1-9926999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E92F2-B738-4926-B8ED-269B153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4CD47-6F7F-4AFE-9F96-386212C5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1742B-5783-4E3D-B088-E4442CF1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7E772-3457-4069-9B2A-6032E722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263E5-B1BE-4548-A93F-213BF44F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38A2C-A7F4-40E0-8469-9DBC950E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9F865-573B-4FFF-BA40-4C20411A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6AA-E5D7-4F86-B5A7-662599CDB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8210-1466-4848-9418-EB369B92D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C0BA-E45A-4207-A540-B18A5DD8E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8987-3D89-4E47-81B9-3B7648563C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AEC3-AED8-41CA-8C0C-92CE8DD02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9B94-3530-444C-8A49-9C9CBC9F6F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FAC1-9B2E-44DF-93D8-0FE74C4A2C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7ACF-016F-40C0-B7F0-39BD4CF342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D91E-B3DF-4BA5-9702-E31F5896DF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6BA-DEA9-4358-A284-5772FFAA12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BC7E-42B3-438F-901C-53471BCAA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FEFB-6000-449F-9983-5E265A48A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A89-41FF-4DC7-BCF7-D49528C559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3182-EAF6-4600-92AF-9AA25709F3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B2A1-59B9-49E6-98C7-ADCFD542E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3F00-226F-4DF8-B556-95CAD6ACF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951F-B2BB-482B-A84E-8FB6ABDB95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6F51-A90F-4992-A56E-779269B28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9D53-EBEE-471D-9119-85053C194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CDB5-2794-477B-9D81-8170B6FCD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8CB5-BE15-47FC-BC7F-6398B95E30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A2AB-1C23-4B36-A53F-C68B19D5C0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FD33-DF20-4A96-93DB-E6DDDF4020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4AEC-B9FE-4BDA-96A8-D50E1A6E4C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4FA-AA9E-4B21-8BDD-04BFE38890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03D7-3BAB-4978-95BD-AC02AAAB2A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4569-F683-4B60-9873-C002D0575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D350-D685-4898-982D-86AC30123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7C70-6C71-4619-A189-3BB77945C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6C65-650A-4D74-AD9C-A06A53A8B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4D17-B295-45AA-988A-28A975161B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A47F-D7C5-4ABB-955D-F3E3EECC13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11CC-3211-4069-B8BF-44F7E2003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E2F2-E2C7-46F1-92E4-9528C81380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E4CC-400E-498D-8979-208B2CF92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7EFE-6253-422A-8890-146381B4D7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1BCE-AA40-409E-933C-D41D879248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F1A9-1AAD-413E-98F6-2F2FFB21C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CD8C-5777-46AA-97AE-2ADC29A95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220B-8329-43D6-884B-0C94A09005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7120" y="3216240"/>
            <a:ext cx="8286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438120" y="1362240"/>
            <a:ext cx="8267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681120" y="1185840"/>
            <a:ext cx="7781760" cy="5172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2"/>
          <a:stretch/>
        </p:blipFill>
        <p:spPr>
          <a:xfrm>
            <a:off x="3286080" y="1785960"/>
            <a:ext cx="2933640" cy="828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3"/>
          <a:stretch/>
        </p:blipFill>
        <p:spPr>
          <a:xfrm>
            <a:off x="2571840" y="2643120"/>
            <a:ext cx="3371760" cy="8096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5" descr=""/>
          <p:cNvPicPr/>
          <p:nvPr/>
        </p:nvPicPr>
        <p:blipFill>
          <a:blip r:embed="rId4"/>
          <a:stretch/>
        </p:blipFill>
        <p:spPr>
          <a:xfrm>
            <a:off x="2928960" y="4143240"/>
            <a:ext cx="2371680" cy="8575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"/>
          <p:cNvPicPr/>
          <p:nvPr/>
        </p:nvPicPr>
        <p:blipFill>
          <a:blip r:embed="rId5"/>
          <a:stretch/>
        </p:blipFill>
        <p:spPr>
          <a:xfrm>
            <a:off x="5929200" y="5572080"/>
            <a:ext cx="2371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09760" y="928800"/>
            <a:ext cx="8124480" cy="57150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7020000" y="328464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2340000" y="479736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6300720" y="4724280"/>
            <a:ext cx="47160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2195640" y="629280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6300720" y="623088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657360" y="1123920"/>
            <a:ext cx="7829280" cy="5162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1785960" y="3214800"/>
            <a:ext cx="2819520" cy="857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5681520" y="3214800"/>
            <a:ext cx="2819520" cy="857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4"/>
          <a:stretch/>
        </p:blipFill>
        <p:spPr>
          <a:xfrm>
            <a:off x="1703520" y="5357880"/>
            <a:ext cx="2819160" cy="8571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5"/>
          <a:stretch/>
        </p:blipFill>
        <p:spPr>
          <a:xfrm>
            <a:off x="5599080" y="5357880"/>
            <a:ext cx="2819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909720" y="2319480"/>
            <a:ext cx="7324560" cy="2219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2"/>
          <a:stretch/>
        </p:blipFill>
        <p:spPr>
          <a:xfrm>
            <a:off x="1274760" y="3643200"/>
            <a:ext cx="2819520" cy="8575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5170320" y="3643200"/>
            <a:ext cx="28195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480960" y="1452600"/>
            <a:ext cx="8182080" cy="44766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866880" y="1224000"/>
            <a:ext cx="7410240" cy="44100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47124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1476360" y="328464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7286400" cy="2571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2"/>
          <a:stretch/>
        </p:blipFill>
        <p:spPr>
          <a:xfrm>
            <a:off x="1258920" y="2270160"/>
            <a:ext cx="4716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704880" y="1247760"/>
            <a:ext cx="7734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1000080" y="1057320"/>
            <a:ext cx="7143840" cy="55148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2"/>
          <a:stretch/>
        </p:blipFill>
        <p:spPr>
          <a:xfrm>
            <a:off x="928800" y="1000080"/>
            <a:ext cx="70959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4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